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0BAF9-29C3-4C56-A4F6-F1B2B065D2C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V No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V particles (grey) covering a white blood cell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 particles (grey) covering a white blood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does HIV look lik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itial infection- flu like symptoms a few weeks after infec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ge 1-HIV positive with no symptoms- can stay at this stage for up to 10 years, but still can pass on the viru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ge 2-HIV positive with symptoms- at this point the person is said to have AIDS. Symptoms include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wollen glands, chronic diarrhea, loss of weight and appetite, fever, fatigue, skin rashes (lesions), night sweats, oral thrush.  Life expectancy: 2 to 5 yea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HIV look li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 infection- flu like symptoms a few weeks after inf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 1-HIV positive with no symptoms- can stay at this stage for up to 10 years, but still can pass on the vir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 2-HIV positive with symptoms- at this point the person is said to have AIDS. Symptoms includ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ollen glands, chronic diarrhea, loss of weight and appetite, fever, fatigue, skin rashes (lesions), night sweats, oral thrush.  Life expectancy: 2 to 5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ath and AI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ge III-Full blown AIDS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 dies of rare opportunistic infections that take advantage the weakened immune system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 dies in a matter of month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IDS related illnesses include rare cancers and Pneumoni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th and 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 III-Full blown AIDS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 dies of rare opportunistic infections that take advantage the weakened immune syste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 dies in a matter of month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DS related illnesses include rare cancers and Pneumon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tages of HIV Infe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ges of HIV Inf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V His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V is thought to have entered into humans somewhere between 1914 and 1940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1983, a retrovirus, now called human immunodeficiency virus (HIV), had been identified as the cause of AID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HIV antibody test has be used to screen all blood supplies in the U.S. since 1985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ople receiving blood or blood products before 1985 may have been infect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 is thought to have entered into humans somewhere between 1914 and 194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983, a retrovirus, now called human immunodeficiency virus (HIV), had been identified as the cause of A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IV antibody test has be used to screen all blood supplies in the U.S. since 198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receiving blood or blood products before 1985 may have been inf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IDS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quired Immune Deficiency Syndro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immune crippling disease caused by the HIV virus in which the body becomes unable to protect itself against any secondary infec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V-Human Immunodeficiency Vir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V infects the immune system cell called the Helper T cells (-most important white blood cell involved in identifying infections.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D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quired Immune Deficiency Synd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mmune crippling disease caused by the HIV virus in which the body becomes unable to protect itself against any secondary infe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-Human Immunodeficiency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 infects the immune system cell called the Helper T cells (-most important white blood cell involved in identifying infections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dy Fluids with High Concentrations of HI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men/Vaginal fluids (as high as blood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east mil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us from so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Fluids with High Concentrations of H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men/Vaginal fluids (as high as bloo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st mi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s from s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w concentrations of HI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is highly unlikely you will be infected if you come into contact with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we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r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liva (-highly possible if blood from mouth sores is present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concentrations of H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highly unlikely you will be infected if you come into contact with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 (-highly possible if blood from mouth sores is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is HIV Sprea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Y type of sexual activity (highest risk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aring used drug need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gnancy-from mother to chil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aring razors- if blood is pres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issing- if even the smallest amount of blood is present. (-membranes of mouth are thin enough for HIV to enter straight into the body.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ttoos/body piercing if equipment is not clea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HIV Sprea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type of sexual activity (highest ris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ing used drug need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gnancy-from mother to chi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ing razors- if blood is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ssing- if even the smallest amount of blood is present. (-membranes of mouth are thin enough for HIV to enter straight into the body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ttoos/body piercing if equipment is not cle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is HIV not sprea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aking han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ugg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wimming poo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ilet sea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ect bi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nating bloo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HIV not sprea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king h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gg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mming p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ilet se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ect b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ating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 HIV be cure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! Drugs are available to manage the disease, but HIV stays in the body forever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BLEM: RNA viruses mutate at a very high rate.  A person with HIV under control can evolve resistance to the drug treatmen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 infected persons have several strains of HIV in their bod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HIV be cu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! Drugs are available to manage the disease, but HIV stays in the body forev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: RNA viruses mutate at a very high rate.  A person with HIV under control can evolve resistance to the drug treat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infected persons have several strains of HIV in their bod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99CB-7DB4-4175-A0A1-2F84234FE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8155-0312-4188-938C-BAD1ED5D3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0048-A9A1-49B2-ACE1-D39923943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E178-DA43-4D55-AEE6-A47EA2755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8E48F-A9FD-486C-AED8-BEF57D3D8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AF39F-080B-43B0-9CC2-8554DD42F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DFAF4-A1E5-4A62-ABA3-E99AF2C34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E58D8-6E13-4170-95CD-A843F2243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ED905-4C00-4684-87C1-DF8C15488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A0D89-5334-4566-8FED-FF0383B4B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E8444-4D7C-48BB-A1A1-2B6AFE5B0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F1BC-2FD6-4D4E-A1F4-E64155B07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A6535-19EC-4E5E-9B93-9EFBFFAF9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A69DB-1EDE-4E77-A3B6-0F5C0019D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F46AC-7936-4F63-B0A6-FC2B3759A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2AB18-9938-4FA2-86F9-0B0EC6CE5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6125E-8460-42A5-BEDE-F412C7B7A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D827-435B-401D-9EF8-0F35F005C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69C3-6125-45AA-882C-76B4103BF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C80A-C3B6-47B6-95C0-EB9F24733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F436-9C78-41A7-AFA9-4DE47E7B1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2733-E757-4481-97E1-A75FD1E4B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A945-3100-4C58-ADB4-8396AA1D1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4DEB-3259-413C-8851-6E0A76743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D4304-FBCE-4B5C-93CE-9CEC618FBAF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FC072-189C-4E5B-8B6F-CA8309A07CB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1904760"/>
            <a:ext cx="4572000" cy="1555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"/>
              </a:rPr>
              <a:t>HIV Notes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4249800" y="0"/>
            <a:ext cx="48942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"/>
          <p:cNvSpPr/>
          <p:nvPr/>
        </p:nvSpPr>
        <p:spPr>
          <a:xfrm>
            <a:off x="3962520" y="563868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HIV particles (grey) covering a white blood ce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What does HIV look like?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Initial infection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lu like symptoms a few weeks after infec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Stage 1-HIV positive with no symptoms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an stay at this stage for up to 10 years, but still can pass on the vir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Stage 2-HIV positive with symptoms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t this point the person is said to have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ID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Symptoms includ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wollen glands, chronic diarrhea, loss of weight and appetite, fever, fatigue, skin rashes (lesions), night sweats, oral thrush.  Life expectancy: 2 to 5 yea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4"/>
          <p:cNvSpPr/>
          <p:nvPr/>
        </p:nvSpPr>
        <p:spPr>
          <a:xfrm>
            <a:off x="457200" y="914400"/>
            <a:ext cx="8153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eath and AI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tage III-Full blown AIDS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son dies of rare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opportunistic infectio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at take advantage the weakened immune system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son dies in a matter of month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IDS related illnesses include rare cancers and Pneumon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Line 4"/>
          <p:cNvSpPr/>
          <p:nvPr/>
        </p:nvSpPr>
        <p:spPr>
          <a:xfrm>
            <a:off x="609480" y="1371600"/>
            <a:ext cx="784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def9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"/>
          <a:srcRect l="1200" t="1664" r="1200" b="4323"/>
          <a:stretch/>
        </p:blipFill>
        <p:spPr>
          <a:xfrm>
            <a:off x="0" y="506520"/>
            <a:ext cx="9144000" cy="635148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1523880" y="152280"/>
            <a:ext cx="6375600" cy="400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Stages of HIV Infec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IV Histor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3399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IV is thought to have entered into humans somewhere between 1914 and 194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99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1983, a retrovirus, now called human immunodeficiency virus (HIV), had been identified as the cause of AI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99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HIV antibody test has be used to screen all blood supplies in the U.S. since 1985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99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ople receiving blood or blood products before 1985 may have been infec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4" descr="HIV_stat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IDS</a:t>
            </a:r>
            <a:br>
              <a:rPr sz="4000"/>
            </a:br>
            <a:r>
              <a:rPr b="1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A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quired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I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mmune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D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eficiency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S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yndrome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immune crippling disease caused by the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HIV viru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n which the body becomes unable to protect itself against any secondary infe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HIV-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H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uman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I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mmunodeficiency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V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r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V infects the immune system cell called the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Helper T cell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-most important white blood cell involved in identifying infections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Line 4"/>
          <p:cNvSpPr/>
          <p:nvPr/>
        </p:nvSpPr>
        <p:spPr>
          <a:xfrm>
            <a:off x="685800" y="1752480"/>
            <a:ext cx="784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Body Fluids with High Concentrations of HIV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men/Vaginal fluids (as high as bloo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east mil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s from s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Line 4"/>
          <p:cNvSpPr/>
          <p:nvPr/>
        </p:nvSpPr>
        <p:spPr>
          <a:xfrm>
            <a:off x="533520" y="1600200"/>
            <a:ext cx="8076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5" descr="01-01_microorganisms_1"/>
          <p:cNvPicPr/>
          <p:nvPr/>
        </p:nvPicPr>
        <p:blipFill>
          <a:blip r:embed="rId1"/>
          <a:srcRect l="68232" t="47288" r="1795" b="13729"/>
          <a:stretch/>
        </p:blipFill>
        <p:spPr>
          <a:xfrm>
            <a:off x="3962520" y="2895480"/>
            <a:ext cx="4876560" cy="373536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ow concentrations of HIV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9246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highly unlikely you will be infected if you come into contact with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e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r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liva (-highly possible if blood from mouth sores is prese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4"/>
          <p:cNvSpPr/>
          <p:nvPr/>
        </p:nvSpPr>
        <p:spPr>
          <a:xfrm>
            <a:off x="762120" y="1447920"/>
            <a:ext cx="784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ow is HIV Spread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Y type of sexual activity (highest risk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ring used drug need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gnancy-from mother to chi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ring razors- if blood is pres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issing- if even the smallest amount of blood is present. (-membranes of mouth are thin enough for HIV to enter straight into the body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ttoos/body piercing if equipment is not cle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Line 4"/>
          <p:cNvSpPr/>
          <p:nvPr/>
        </p:nvSpPr>
        <p:spPr>
          <a:xfrm>
            <a:off x="533520" y="1295280"/>
            <a:ext cx="8001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ow is HIV not spread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848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king h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imming p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ilet sea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ect bi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ating bl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4"/>
          <p:cNvSpPr/>
          <p:nvPr/>
        </p:nvSpPr>
        <p:spPr>
          <a:xfrm>
            <a:off x="685800" y="1295280"/>
            <a:ext cx="7696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an HIV be cured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O!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rugs are available to manage the disease, but HIV stays in the body forever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OBLE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RNA viruses mutate at a very high rate.  A person with HIV under control can evolve resistance to the drug treat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infected persons have several strains of HIV in their bod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4"/>
          <p:cNvSpPr/>
          <p:nvPr/>
        </p:nvSpPr>
        <p:spPr>
          <a:xfrm>
            <a:off x="457200" y="1295280"/>
            <a:ext cx="8001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5T03:18:47Z</dcterms:created>
  <dc:creator>Allen Berard</dc:creator>
  <dc:description>HIV retrovirus disease</dc:description>
  <cp:keywords>HIV retrovirus disease</cp:keywords>
  <dc:language>en-US</dc:language>
  <cp:lastModifiedBy>LEGION2</cp:lastModifiedBy>
  <dcterms:modified xsi:type="dcterms:W3CDTF">2016-01-14T10:08:40Z</dcterms:modified>
  <cp:revision>13</cp:revision>
  <dc:subject>HIV retrovirus disease</dc:subject>
  <dc:title>HIV retrovirus disease</dc:title>
</cp:coreProperties>
</file>